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64B-AE38-4872-8A1F-1E18736E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868-3BD9-4A92-B00D-45B71E1F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1CA7-0916-47B7-8691-F0811856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772-CAD8-4D9F-85F0-C5075092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3A7-07EB-4977-8EDB-FFF23C5D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3A04-83FE-479D-8AD9-F236D1B3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252-7435-4D78-9A64-3B286D82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115-DFF4-4B0D-ACF2-B51D5806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BDFB-21BD-412F-84A2-051AA30B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C29-D6B9-4E84-8EE1-FA1A24F4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70E8-40B6-4191-AC64-D21C1CD8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FB7-2A4E-4729-9E4F-5F6507F1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B4B0-38AC-4C5E-8C00-98B1370E4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0358eocWgsHZvH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895356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  </a:t>
            </a:r>
            <a:r>
              <a:rPr b="1" lang="ar-SA" sz="3600" spc="-1" strike="noStrike">
                <a:solidFill>
                  <a:srgbClr val="ffff00"/>
                </a:solidFill>
                <a:latin typeface="Simplified Arabic"/>
                <a:cs typeface="Times New Roman"/>
              </a:rPr>
              <a:t>أنتم ملحُ الأرض، فإذا فَسَدَ الملحُ فأيُّ شيء يُملِّحهُ. </a:t>
            </a:r>
            <a:r>
              <a:rPr b="1" lang="en-US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00"/>
                </a:solidFill>
                <a:latin typeface="Simplified Arabic"/>
                <a:cs typeface="Times New Roman"/>
              </a:rPr>
              <a:t>إنـَّـهُ لا يَصلُـحُ</a:t>
            </a:r>
            <a:r>
              <a:rPr b="1" lang="en-US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Simplified Arabic"/>
                <a:cs typeface="Times New Roman"/>
              </a:rPr>
              <a:t>إلاَّ لأنْ يُطرَحَ في خارجِ الدارِ فيدوسَه الناسْ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     </a:t>
            </a:r>
            <a:r>
              <a:rPr b="1" lang="ar-SA" sz="3600" spc="-1" strike="noStrike">
                <a:solidFill>
                  <a:srgbClr val="ffff00"/>
                </a:solidFill>
                <a:latin typeface="Simplified Arabic"/>
                <a:cs typeface="Times New Roman"/>
              </a:rPr>
              <a:t>أنتم نورُ العالم، لا تَخفى مدينةٌ على جبلٍ، ولا يوقدُ سراجٌ </a:t>
            </a:r>
            <a:r>
              <a:rPr b="1" lang="en-US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فيوضــعَ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تحتَ المكيالْ، بلْ على المنارةِ ليضيءَ لجميعِ الذينَ همْ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في  البيــت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86400" y="0"/>
            <a:ext cx="3200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لِيُضىءْ نورُكم هكذا للناسْ، 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ليَروا أعمالكُــمُ الصالحــة 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يُمجّـدو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باكـــُــمُ الـــذي فــــي السمــاواتْ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50528335egXdII_ph" descr=""/>
          <p:cNvPicPr/>
          <p:nvPr/>
        </p:nvPicPr>
        <p:blipFill>
          <a:blip r:embed="rId1"/>
          <a:stretch/>
        </p:blipFill>
        <p:spPr>
          <a:xfrm>
            <a:off x="0" y="0"/>
            <a:ext cx="539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5:37:19Z</dcterms:created>
  <dc:creator>USER</dc:creator>
  <dc:description/>
  <dc:language>en-US</dc:language>
  <cp:lastModifiedBy>USER</cp:lastModifiedBy>
  <dcterms:modified xsi:type="dcterms:W3CDTF">2003-02-10T15:44:14Z</dcterms:modified>
  <cp:revision>1</cp:revision>
  <dc:subject/>
  <dc:title>PowerPoint Presentation</dc:title>
</cp:coreProperties>
</file>